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63E1-85C6-4B98-B791-ED7AED567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E7A1-AAE2-4ED6-9F45-6E1F73DF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384B3-C4C5-4B38-8512-9AE2F843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E68E8A-C5C6-4635-ADB1-E4E7D50B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1846A-1DCD-4A79-8313-5D7F3670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873647-468E-47A7-B9B7-FB18BB56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75F62-1888-414B-8E1D-A353B221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083A2-67E6-4997-A0E9-AB5C7FE1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5AB2F6-193B-4BF0-A15E-960A223C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AABB3D-5D7C-4B99-A2EA-E3015A941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E0B30-E8F3-48CD-89D0-03FE9CC82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BE524A-DEC8-429F-826B-7FC8956BE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4195-D264-42A2-BA81-9B0B0FF3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2A7D9-D6F5-49EB-BCD9-B077360F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9C7E02-B343-4960-B5D9-5613193A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AD421-4BDF-49E0-B5B8-00F408D7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D5DFD9-6CC1-4E05-A005-7F6DB3CF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41AC22-C459-4A1D-8463-EC5E2AB8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030325-6FF4-4B61-862B-A3EA12D1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1EC54-4074-41CC-B545-31FF8F61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603EA-34B6-4140-880A-D127AB86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5A803-125E-4E76-83CE-168DC239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17DECE-F1A5-416E-BCDC-EA3C7DFC4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593B-F519-4303-A455-D4C2BB416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8493D0-1113-428F-BF66-6D250CDB5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DF576-E818-4D9E-9224-87692D153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DF4E8-D11F-4CC3-9365-B3F0F7EF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4DE88-48E7-4119-A26F-A8616B4F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50C55-2410-4DEF-8D1B-3B050AD6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0CE4E1-2518-4AFA-AD71-91CC91B9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2670D-50D2-4B0F-A4F3-6B3258D4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3B4A8-E33C-4BAF-ABCB-83F2E2B7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971FF-E901-4B33-9C52-A4AE2279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70F2D-A6B1-4D8F-97C4-74761939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DC44-CA0B-457A-821A-C0C939129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3F638-1B2E-4AE1-A6AD-40CB4A8F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9997E-1C22-497E-8F88-91D951267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34B691-1D30-4BD3-9227-EA385E720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664E53-3F86-4461-B33E-D4EA1443C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BBC8D0-8DAC-496F-AE0D-D001A99E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E09DBE-5B66-450B-A5BB-54F2A42B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9A0EBC-FDD1-4EB9-AB2A-D99E6C20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9A42EC-DE12-4196-A127-21195A50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9C7ABD-CBDB-44B1-BE39-4BFBCC88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D165C1-F326-46D6-8214-E1247172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A0C9-465A-40C3-BAFD-049E5F47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093DC9-76C6-44F1-BD40-D3052126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A96C6F-7285-483B-B83B-AD1976BB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941D27-9738-4646-8612-280EBAEF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4D1B3B-2163-4F6A-B8A5-70AE4A503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75D6E5-ED9B-434A-9117-FAD19B7A6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CC1135-5ABF-4EF5-92AD-741039613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827262-AA94-4E5E-9258-7F61BA19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5FE360-E2FD-4844-9404-E9A3CFAF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CDC1B3-0C17-4C0D-BE81-427C1AAE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8C8E91-AC6F-46D0-B25B-FE588845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3025-7B0D-4694-925F-D485465B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EA5053-4D8B-4CD4-9C19-366C8462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BF84C6-79CE-4D12-9F74-5C1A1227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311A64-C37F-488D-B943-434A7087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6430A8-1294-4411-9EA2-ABCD6918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EB01CB-3B32-444D-B8D5-02BD318B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2820CF-A8AC-4A73-85ED-AFEF044A7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6E8E4C-D991-4FCA-83C5-B66F417E2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91D99F3-4A63-4300-B316-6F6C43332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32E848D-AC41-4706-97CC-30A66BBE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87F76B8-9B37-41A3-8438-6D64A6F7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5C85-8B8A-4008-A312-90F03577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9CC63D7-462F-4753-9598-27668468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E12A68F-0AA8-4572-B41D-1D139154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324575D-1531-420F-B439-44B59A69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B2B9A3A-D9D5-4D47-81A5-B449FC67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55E4ACA-1C04-4A38-8962-89DA9DFF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AE5BF9D-D70B-4845-9D8A-256E11C5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84E203B-C43C-4AD9-BF10-78D6FBF9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9FE0F93-1F41-4830-92BE-BCD2F351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F8DDCEE-DF48-4A37-AA3F-0DF19B22B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EEFE148-7168-4DAD-A581-A2E3085DE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9DC1-E146-4001-AD3E-57C5E3C3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415F2AE-A102-4B94-A312-0A60A517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2315038-DAC5-4FCB-9D9D-E79492C3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0B8D5DA-9A97-4294-A347-9E5D6DA9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1FAD801-ACD5-4148-A19B-1D520227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E65FB95-65B2-4943-BDB1-07BA4BBB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A7F14B7-EDA0-4525-9A2F-0D3913E5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EEB7181-A718-458B-B5BD-7BEE7A16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FA6513D-652B-4A44-910B-8A12B4D1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8C8B1A1-974D-4759-8A34-778B15AE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A3967A1-0C1D-485B-8F6C-53B241E97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3C83-8C86-46F5-816E-E64CB8C9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7B3F484-B3AA-4EAD-93E0-1FCD57799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8BD040-9F81-4140-ACB7-9B4D5D244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0FB98E-756A-4E56-95F2-C39F7168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98EF61-AE27-4D83-BA24-AA9E87C5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EB468D-38D2-4E43-8A43-8E24A1A0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9BE0B8-C2C5-4C8D-B319-DED68D84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11C868-B7B6-43A1-ABD1-068344DA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DBCB0A-3143-4643-BC37-E9F1C4D6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E5728D-01AC-4712-93ED-96A7F430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06B3F5-59B7-46F5-B2DD-B31FDC5F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0A6E-1A86-4DFB-921D-909C2C92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ED45BA-9E80-470B-8F62-C555C824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EC5753-F82D-47B3-82D0-B83708640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A910DB-F4F8-4A52-A233-4FD8EA5A8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7693-7F21-430B-911F-69D652C3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D6C1-1C0F-4076-9B15-34BFCB40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B5AB-B095-4C59-861E-649E4C24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4E9DE-5F2B-4C6D-B68C-F13CCDB4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C905-75F1-40CC-B9AE-94BC670D3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30E4-58A6-401D-8879-01FC7F418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03EFC-1015-457E-9640-0871C3E6D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985D9-0F5C-4003-B18A-62E089C8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69143-169D-47CA-B1A9-5067099D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5DB60-85C2-422A-868D-B810C31F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73824-0285-42D4-A3E4-AAA8E331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108D-DCA0-4A0C-AA97-3F73F9EC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586AB-45DA-4671-AA4E-DAE66A97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D6AF5-1565-47AD-80A8-4E1E74A2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E7253-EFF3-4986-BEA4-C15A4EC6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F80D0-3366-4BAD-B6C7-59F5FA51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A4E93-FD3B-46E9-B7FB-2554A4BE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600D0-6498-4B99-A7CD-C92903710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134B7-6DF1-473B-AF8E-8CC4315DA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431D9-D699-4795-8313-C520958B7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886DD-A206-41FB-A518-48D75B2C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89129-B5BE-4D3A-B5A6-78756587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8FC6-0DA5-4514-B10A-1FB542CF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38DBE-4AB3-4693-85B5-56D74D1F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D6FEB-412C-4865-82A8-05A4C667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5AC86-2C2E-4B0A-A638-262F7981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DE661-8CFF-443A-A1FF-1086B06B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CE735-1EFF-4272-9B24-C2CFAFB9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AB22D-243D-4469-BA21-1D94855B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B3172-143F-42AA-AF21-4C912BB1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C7447-9AE4-4C7C-827E-70FEDAEC7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A68DE-7E67-40CF-8094-F17F75087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F5410-24F1-4B72-8988-68D50CE2A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C8BF-251D-4621-ABC0-F5CA3F3B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138D5-4470-4993-BD7A-03F50F74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E8137-8F52-4787-9E7E-7382A313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069F3-0F9C-4B98-8381-1B057035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FA076-82B3-4464-BB75-F997D301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1A6E3-AB57-45A7-B74D-F1705785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03B78-DAA9-4B92-A356-857BCF5E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E91FB-1E4F-4198-B173-EAF3B7D7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05479-BFC0-4C21-8554-7FF30477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FF09E-E88E-4708-A9E0-3EBCD17D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3B4E4-5FCC-4326-A261-40EECAA46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3A8A-A724-40C2-A40B-8623D39B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6BEB1-F6BB-48A5-9C67-151DF9144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B3506-6DD8-4363-9213-05B1F973B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50BAD-0B91-4760-87C2-1B8E5C3F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489DB-39C3-418F-AD9C-420582FA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7C0B3-3665-4539-8DD3-CE661D13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AEF10-F078-4850-86A1-154BCC8A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E6019-73C6-4564-8364-02121AC5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7C257-1DD3-4596-94EF-AA6D06FF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7EC77-4B4C-4C90-8017-97755249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8248D-16AA-48A6-A506-CC1BB0B5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311C-5C4C-470F-B1D0-90D14077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F0F0F-5341-422E-B5F3-4F88D8C6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8BA7D-2206-4A9E-B3EB-F6C328CF1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B00F5-DBBB-4165-B0CF-204345027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05156-0B72-4869-8513-1A025670C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B6B4F-B529-40CD-9D58-5FE0A7FE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E2E22-9694-4C44-958D-AA8BD3B5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B6AE6-D9FA-40E1-9127-E8562EFF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888A8-85CC-42AA-B217-917FCB67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6AAA7-F00A-4D68-ABBD-097EB90D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7641D-56C5-495B-94A9-83986E89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FCDC-9FDD-42B1-86C7-67BD5F29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7348B-B7F7-4358-B4D2-1EA2CA4A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14F5A-4BE7-4168-9039-7D672F9B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2B4E8-F2BF-4EC2-A5DE-D9ACEE97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4AC43-8E67-442B-A30B-946DB72A7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16796-3C61-4F5F-9F84-B09367A5B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0F7F1-DC8D-42F4-A79B-517160344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AD982-4655-40FE-B519-CDDAF0DE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D473D-7D85-4DC6-B5AA-506C7B96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7257A-0B41-4CEB-9765-65E55653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25C41-6E50-4439-9552-732DEEE4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EDEF-6F87-48E9-9FFE-D221BBE3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BCB52-5C56-478C-8111-4771CE13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6F732-C0BA-4978-A7E4-26134C9E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7EA3D-BF43-4838-B334-8E9E1E95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40E59-D75E-4E3D-BDE5-039345D8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E923B-65EE-42D1-AB42-A44F2A8A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E75F0-32CD-4EDD-BD6F-F51288620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FEDFD-6B8F-44DA-AE6B-4E5A9734C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8B077-C36E-4A74-88EC-BF1A0F798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80E4A2-18E4-4F19-BA9A-A8BF481C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8A46B-D4ED-498F-B350-E1F253CD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0FB9-0FA1-46B3-99C2-8278546B0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622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623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626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627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628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0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631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632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3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4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635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6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7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38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9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0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41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2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3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44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5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6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47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8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9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650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1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2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653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4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5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56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8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59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1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62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4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65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7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68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0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71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3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74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6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77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9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80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2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83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5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86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8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89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1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692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94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96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697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8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9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00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1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2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703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5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706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7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8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709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1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712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4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715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7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718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0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721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3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724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6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727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29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730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731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8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9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6073-E926-4B40-B98E-9A327298D5F7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3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8CA6-8469-49F2-8E2B-5BCBC1827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dt" idx="3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77D2-2C5D-46E6-8981-168D4336D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76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8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880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1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882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7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889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F27D-E38F-49AE-A193-D0ED247811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937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9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941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2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943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8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5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4D46-4B0A-4F49-8BA7-36E8E4C28C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 type="ftr" idx="4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99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ftr" idx="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696F-F8F7-4CD6-BD41-EF2A6E7ABF8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 type="dt" idx="4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6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F5A9-A8AE-4768-8064-E87429C1AB7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DE0B-924C-462B-9B11-DFD635DD9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98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06F1-A571-41B8-BD09-5765504AC5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43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C6F9-5EFA-4EBA-8BD4-9FF700C9E3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87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EDBE-44C7-402A-A639-8C768A9795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36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610F-8177-4250-9084-F35C74322B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84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21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785A-F5D6-4B7E-A1BA-7BEB545992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6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0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FE57-4403-4637-8A2E-34BB063EFC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46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47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50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53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456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60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61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3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67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9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70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8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1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82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4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7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88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0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3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25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526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8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529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1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532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4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535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7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538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0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3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544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9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550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2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553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5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556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8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4EFA-B16A-4E91-89E4-90F1576E30C0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0.jpeg"/><Relationship Id="rId4" Type="http://schemas.openxmlformats.org/officeDocument/2006/relationships/hyperlink" Target="http://www.google.com/imgres?imgurl=http://www.lykhin.com/mobilephoto/wp-content/uploads/2007/11/sbsh0225.jpg&amp;imgrefurl=http://www.lykhin.com/mobilephoto/belgorod-russia-central-market/&amp;usg=__jwqR8gqz3ojPQrnDU-TKswrkg1U=&amp;h=338&amp;w=450&amp;sz=154&amp;hl=en&amp;start=2&amp;zoom=1&amp;itbs=1&amp;tbnid=Ssk1JMEe3gdh9M:&amp;tbnh=95&amp;tbnw=127&amp;prev=/images%3Fq%3Drussia%2Bmarket%26hl%3Den%26gbv%3D2%26tbs%3Disch:1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nap ITC"/>
              </a:rPr>
              <a:t>Russia’s Econom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nap ITC"/>
              </a:rPr>
              <a:t>ENJO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Ravie"/>
              </a:rPr>
              <a:t>Problems/Solutions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vie"/>
              </a:rPr>
              <a:t>Problem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Factories focused on heavy 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Had older indus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Ravie"/>
              </a:rPr>
              <a:t>Solu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factories shifted to light 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High-technology industries have appea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1596960" y="301932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Tempus Sans ITC"/>
              </a:rPr>
              <a:t>Important parts of Russia's econom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iller"/>
              </a:rPr>
              <a:t>Gold and fish are both found in South Eastern Russ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iller"/>
              </a:rPr>
              <a:t>Coal is a major resource and is found in the cold parts of Russ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iller"/>
              </a:rPr>
              <a:t>Russia is one of the leading oil produce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9" name="" descr=""/>
          <p:cNvPicPr/>
          <p:nvPr/>
        </p:nvPicPr>
        <p:blipFill>
          <a:blip r:embed="rId1"/>
          <a:stretch/>
        </p:blipFill>
        <p:spPr>
          <a:xfrm>
            <a:off x="491796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130" name="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1904760" cy="2133720"/>
          </a:xfrm>
          <a:prstGeom prst="rect">
            <a:avLst/>
          </a:prstGeom>
          <a:ln w="0">
            <a:noFill/>
          </a:ln>
        </p:spPr>
      </p:pic>
      <p:pic>
        <p:nvPicPr>
          <p:cNvPr id="1131" name="" descr=""/>
          <p:cNvPicPr/>
          <p:nvPr/>
        </p:nvPicPr>
        <p:blipFill>
          <a:blip r:embed="rId3"/>
          <a:stretch/>
        </p:blipFill>
        <p:spPr>
          <a:xfrm>
            <a:off x="4648320" y="3962520"/>
            <a:ext cx="1904760" cy="2149200"/>
          </a:xfrm>
          <a:prstGeom prst="rect">
            <a:avLst/>
          </a:prstGeom>
          <a:ln w="0">
            <a:noFill/>
          </a:ln>
        </p:spPr>
      </p:pic>
      <p:pic>
        <p:nvPicPr>
          <p:cNvPr id="1132" name="" descr=""/>
          <p:cNvPicPr/>
          <p:nvPr/>
        </p:nvPicPr>
        <p:blipFill>
          <a:blip r:embed="rId4"/>
          <a:stretch/>
        </p:blipFill>
        <p:spPr>
          <a:xfrm>
            <a:off x="6553080" y="1828800"/>
            <a:ext cx="2286000" cy="2133720"/>
          </a:xfrm>
          <a:prstGeom prst="rect">
            <a:avLst/>
          </a:prstGeom>
          <a:ln w="0">
            <a:noFill/>
          </a:ln>
        </p:spPr>
      </p:pic>
      <p:pic>
        <p:nvPicPr>
          <p:cNvPr id="1133" name="" descr=""/>
          <p:cNvPicPr/>
          <p:nvPr/>
        </p:nvPicPr>
        <p:blipFill>
          <a:blip r:embed="rId5"/>
          <a:stretch/>
        </p:blipFill>
        <p:spPr>
          <a:xfrm>
            <a:off x="6553080" y="3962520"/>
            <a:ext cx="22860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98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98" fill="hold"/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98" fill="hold"/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Juice ITC"/>
              </a:rPr>
              <a:t>Command V.S Free Marke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Command controls what you sell and the price of your good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Command economy has impacted a few countri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Free Market lets you choose the products you sell and your pri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A lot of countries have free market econom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93" dur="2000" fill="hold"/>
                                        <p:tgtEl>
                                          <p:spTgt spid="1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ussia’s type of Econom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iginally Russia had a command and globally isolated economy. There was many people in pover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day Russia is more based on free market and globally integrat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9" name="" descr=""/>
          <p:cNvPicPr/>
          <p:nvPr/>
        </p:nvPicPr>
        <p:blipFill>
          <a:blip r:embed="rId2"/>
          <a:stretch/>
        </p:blipFill>
        <p:spPr>
          <a:xfrm>
            <a:off x="301680" y="3963600"/>
            <a:ext cx="8540640" cy="2135160"/>
          </a:xfrm>
          <a:prstGeom prst="rect">
            <a:avLst/>
          </a:prstGeom>
          <a:ln w="0">
            <a:noFill/>
          </a:ln>
        </p:spPr>
      </p:pic>
      <p:pic>
        <p:nvPicPr>
          <p:cNvPr id="1140" name="" descr=""/>
          <p:cNvPicPr/>
          <p:nvPr/>
        </p:nvPicPr>
        <p:blipFill>
          <a:blip r:embed="rId3"/>
          <a:stretch/>
        </p:blipFill>
        <p:spPr>
          <a:xfrm>
            <a:off x="304920" y="3962520"/>
            <a:ext cx="4343400" cy="2133360"/>
          </a:xfrm>
          <a:prstGeom prst="rect">
            <a:avLst/>
          </a:prstGeom>
          <a:ln w="0">
            <a:noFill/>
          </a:ln>
        </p:spPr>
      </p:pic>
      <p:pic>
        <p:nvPicPr>
          <p:cNvPr id="114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3962520"/>
            <a:ext cx="4181400" cy="213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tencil"/>
              </a:rPr>
              <a:t>Russia’s Growt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9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Stencil"/>
              </a:rPr>
              <a:t>Russia has increased in wealth  since the economic crisis of the fall of the Soviet Un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Stencil"/>
              </a:rPr>
              <a:t>They changed from Yeltsin years to Putin years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4687920" y="1828800"/>
            <a:ext cx="399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5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4038480" cy="4191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Important Fac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stellar"/>
              </a:rPr>
              <a:t>Getting to the materials In Russia is difficult because Serbia is mostly undeveloped because of its climat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stellar"/>
              </a:rPr>
              <a:t>Russia exports petroleum, natural gas, wood and metal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Kristen ITC"/>
              </a:rPr>
              <a:t>CREDIT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Designed by Alex, Mario ,and Fi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Typed by Alex and Mari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Research by Alex, Mario ,and Fi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Kristen ITC"/>
              </a:rPr>
              <a:t>sponsored by breakfast ,lunch, and dinner foods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Kristen ITC"/>
              </a:rPr>
              <a:t>With technical support from Liam Rogers and Anthony Fong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50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50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5000" fill="hold"/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5000" fill="hold"/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5000" fill="hold"/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5000" fill="hold"/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5000" fill="hold"/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5000" fill="hold"/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5000" fill="hold"/>
                                        <p:tgtEl>
                                          <p:spTgt spid="1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5000" fill="hold"/>
                                        <p:tgtEl>
                                          <p:spTgt spid="1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5000" fill="hold"/>
                                        <p:tgtEl>
                                          <p:spTgt spid="1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5000" fill="hold"/>
                                        <p:tgtEl>
                                          <p:spTgt spid="1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09:53:25Z</dcterms:created>
  <dc:creator> </dc:creator>
  <dc:description/>
  <dc:language>en-US</dc:language>
  <cp:lastModifiedBy> </cp:lastModifiedBy>
  <dcterms:modified xsi:type="dcterms:W3CDTF">2010-12-20T18:43:18Z</dcterms:modified>
  <cp:revision>14</cp:revision>
  <dc:subject/>
  <dc:title>Russia’s Economy</dc:title>
</cp:coreProperties>
</file>